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8CC-83C5-4FBF-845F-A312B1DC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D07-DC81-4788-B2B6-E0DD7BE3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955-B72C-4875-90EA-13097D1E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0DC-ED26-45FA-B10D-63E8F32E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3A16-5EE4-4F6F-BC1A-39501F2C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1E68-ACA9-4266-8E7D-5D66AB81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A817-A2E6-4A79-A992-5ABCDD46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C7F3-F421-49A1-868E-B27EFB05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649F-B469-4AA5-A5C6-11725116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9758-EBBA-4D3F-93E4-08694551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0BC5-FCCE-4431-A808-53FE1824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BA7-B828-4977-B085-5F20AF95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6798-5844-4EFA-8DC0-91A7C8D8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04F9-7513-4C81-AE48-C3009D49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D4D5-62AB-47ED-A533-108F445F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4B4C-5C57-4F6C-B0DC-E5886A3D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61A7-CB74-4F60-AFE5-011AA561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AD7-7AE5-4690-B884-DDBD8FFB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03A-9A3C-4C50-B7A2-DD6B23F0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6C04-1CA8-45EC-B730-FCB483B1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6F7-0312-4BF5-81A5-F24A78FB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2B2-2212-491B-993A-694BE640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7FF-3475-475F-9D38-37EF0486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A06-6B91-4581-9996-BE28C946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4348-6A23-4512-9278-EE5E56470B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2858-5D38-41A5-87F1-A975F853DC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b2b2b2"/>
                </a:solidFill>
                <a:latin typeface="Arial"/>
              </a:rPr>
              <a:t>Poetry</a:t>
            </a:r>
            <a:endParaRPr b="0" lang="en-US" sz="77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rritating Saying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sn’t it about time you thought about bed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t must be somewhe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You speak to him Harold, he won’t listen to m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ho do you think I am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You’d better ask your fath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t’s late enough as it i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on’t eat with your mouth open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 this day and ag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id anybody ask your opin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 remember when I was a bo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d after all we do for you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You’re not talking to your school friends now, you know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hy don’t you do it the proper wa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’m only trying to tell you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hat did I just say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ow, wrap up war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-E-D spells b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t up straight and don’t gobble your foo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r the five hundredth tim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on’t let me ever see you do that agai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ave you made your bed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n’t you look further than your nose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o more li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ave you done your homework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cause I say s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on’t come those fancy ways he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y more and you’ll be in b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y, haven’t you grow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ome day I won’t be here, then you’ll se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 chair’s for sitting 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You shouldn’t need telling at your ag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ant, want, want, that’s all you ever sa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rritating Sayings (cont’d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hyme Sche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tern of rhyme in a stanza or poem.  You can identify the rhyme scheme in stanzas by looking at the last word in the line and assigning letters to the rhym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he sun behi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ou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he darkness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he grass beneath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e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tepped into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Rhyme Scheme Practice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knew I’d have to grow up sometim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my childhood memories would en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a spark within me die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 lost my imaginary friend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sun set and the moon cam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looked out the window in dread and sham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und of birds rose from the sky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ved my hand and bid goodby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look into his eyes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ee the deep blue se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ope my love never dies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he’ll always be there for m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re ends the sag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writers who have grow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’re successful authors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e will be unknow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Rhyme Scheme Practice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imile Poem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rejudice by Kimberly Harm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judice is like the feeling you 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’re left out of a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like the music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ashell: hollow and dis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when you never reach the front do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being turned away at the first st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Metaphor Line-by-Line Poem</a:t>
            </a:r>
            <a:br>
              <a:rPr sz="3000"/>
            </a:b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The Highwayman by Alfred Noyes (excerpt)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wind was a torrent of darkness among the gusty trees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oon was a ghostly galleon tossed upon cloudy seas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oad was a ribbon of moonlight over the purple moor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the highwayman came riding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iding-riding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highwayman came riding, up to the old inn doo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imile Line-by-Line Example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ream Deferred by Langston Hugh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s to a dream defer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it dry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a raisin in the su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fester like a sore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n ru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it stink like rotten me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crust and sugar over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a syrupy swe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be it just sags like a heavy lo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does it explo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ne-by-Line Metaph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a sore, festering and bubbling on the hea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a single-leafed tree, its owner weak and al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a wilted rose, time has worn it from beauty to wretched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a zit, ready to bur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the Hulk, small when calm, huge and fierce when agit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a snake, it swallows its enemies who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a birthday party, it can take you by surpri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a tree, it stands the test of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a rubber band, it will snap when pulled too ha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a deadly disease, something you don’t want to cat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etaphor Poem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etaphor Poem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tended Metaph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ate is a z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rned by debris, dirt, oil, gr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icked into a fa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a filthy wor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begins beneath the surfa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n pokes out its disgusting he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kes the face turn 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d grows and grow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ntil final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explod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ere Were You Yesterday?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ros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terday it rained, and I stood out in it hoping by chance that you’d just happen to come outside.  But I knew that if you did come out, we’d never be like we were before.  Maybe it’s a good thing you didn’t come out.  Besides who comes out in the rain anymore just to tal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Alliteration</a:t>
            </a:r>
            <a:br>
              <a:rPr sz="3000"/>
            </a:br>
            <a:r>
              <a:rPr b="0" lang="en-US" sz="3000" spc="-1" strike="noStrike" u="sng">
                <a:solidFill>
                  <a:srgbClr val="b2b2b2"/>
                </a:solidFill>
                <a:uFillTx/>
                <a:latin typeface="Arial"/>
              </a:rPr>
              <a:t>C</a:t>
            </a: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afeteria </a:t>
            </a:r>
            <a:r>
              <a:rPr b="0" lang="en-US" sz="3000" spc="-1" strike="noStrike" u="sng">
                <a:solidFill>
                  <a:srgbClr val="b2b2b2"/>
                </a:solidFill>
                <a:uFillTx/>
                <a:latin typeface="Arial"/>
              </a:rPr>
              <a:t>C</a:t>
            </a: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haos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er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tomach grow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les h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e plac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wl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c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er towel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on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th grade teach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w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kely 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on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ps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ws dow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Onomatopoeia Poem</a:t>
            </a:r>
            <a:br>
              <a:rPr sz="3000"/>
            </a:b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What Some People Do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7086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ibber, jabber, gabble, bab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kle, clack, and prate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iddle, twaddle, mutter, stut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tter, splutter, blate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atter, patter, tattle, prattle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w the rag and crack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iel and spout and spit it out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ll the world and quack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niffle, snuffle, drawl and bawl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nicker, snort, and snap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rk and buzz and yap and yelp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in and chip and cha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t and shoot and gargle, gasp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b and gag and groa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 and haw and work the jaw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mble, mumble, moa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ef and bellyache and ba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 a mouthful, squaw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is what some people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y merely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Onomatopoeia Poem</a:t>
            </a:r>
            <a:br>
              <a:rPr sz="3000"/>
            </a:b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What Some People Do (cont’d)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ere Were You Yesterday?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oetr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142640"/>
            <a:ext cx="6705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terday it 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 stood out in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h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you’d just happen to come out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 knew that if you did come ou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’d never be like we were bef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be it’s a good 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didn’t come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comes out in the 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 to tal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se        Vs.       Poet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38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rhy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attern/rhy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line di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use im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arget e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sions are para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hymed/Unrhy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s a beat/has rhy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 di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images to focus on a particular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s emotions through use of im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sions are stan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etry Vocabul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mula poet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Poems that must follow certain guidelines (and, most of the time, a certain rhyme scheme) to be classified as a particular kind of po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hyme Sche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Pattern made by how poem rhymes at the end of a line-letters assigned to lines according to end rhy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etry Vocabul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Alliterat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Repetition of the same sounds at the beginning of words in a poem (ex. My mom made my Monday more magnificent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Onomatopoei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Words that imitate sounds (ex. pow, bang, pop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njambmen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Continuation of a complete thought/idea from one line to the nex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oetry Vocabular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Assonanc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Repetition of the same sounds in a line (ex.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Sau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was filled with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aw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ver Mardi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Gra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nd Rhym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How poem rhymes at the ends of l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Stanz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Lines of poetry that form a division in the po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oetry Vocabular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di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Words are not meant to be taken word for word (ex. You are pulling my leg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iter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Words are meant to be taken word for wo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motion or feelings author felt or wants audience to feel while reading poem (aka m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 Can’t Write a Poem” po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get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must be kid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’m still half aslee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eyes keep clos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brain isn’t wor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don’t have a penc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don’t have any pap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desk is wobb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don’t know what to write ab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besides, I don’t even know how to write a po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’ve got a headache.  I need to see the nu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’s up?  Uh oh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I have is this dumb list of exc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like it?  Really?  No kid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ks a l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you like to see another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Bruce Lans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6:42:06Z</dcterms:created>
  <dc:creator>MIS</dc:creator>
  <dc:description/>
  <dc:language>en-US</dc:language>
  <cp:lastModifiedBy>Hilary Wiltshire</cp:lastModifiedBy>
  <dcterms:modified xsi:type="dcterms:W3CDTF">2011-02-25T15:28:27Z</dcterms:modified>
  <cp:revision>72</cp:revision>
  <dc:subject/>
  <dc:title>Poetry</dc:title>
</cp:coreProperties>
</file>